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gif" ContentType="image/gif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1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A2A5-0E3E-4350-A385-3FE75BD43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5007-8094-4EEB-9248-1AA1B45CA60D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83D4-2456-4F8B-9470-3AF6D742336C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EF22-77B4-4090-BB2C-F6AAA2CD7FD4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7133-8EB7-4641-86F8-89F5FD041906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A909-C1A2-4444-AF6B-FC491B1C4D2C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AF02-C5B2-4695-ADF6-74B8F9929A70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DC83-86D0-4627-B6AE-0A6069A3649D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904-AEA9-4045-9BFC-60ACCC99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8D9-7102-4974-891D-B060612B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82436-138B-4E8E-B893-C4F4FC22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65A42-E3F4-4784-A66A-5A7E630D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328E7-EECE-4CF5-AFE6-DE53F520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BADD7-DFC9-47E6-AF85-18C94BA5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A9BD6-017A-4CAA-8541-E66FD7FF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E333E-37BB-416E-A38B-757F507E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3E8F7-BD7C-484A-A408-4421E1CB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F816C-F509-4E2E-A25B-97DB9791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D2B04-DD0D-4583-931F-3F93CB6E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C99A4-1EB8-47B2-AFFF-A02BFA26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E3D-F2F3-4DAD-A407-74746B1B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CA14E-5288-4F86-838B-13A0E0AF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51F4B-21EB-4021-89DB-7BC0C515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4E62C-B129-4B2E-A149-FDE69BB2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39E0C-17F1-4F5B-B966-B88F661C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1D637-D7FE-40E6-8619-5CEF297F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60221-418C-449F-B21E-8131CC6A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B0BC2-1BB3-46DF-A4A6-D2F9762D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24B0A-E533-4FBB-B46E-8F280BE3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7CE82-0047-4E2A-80A9-E4B1D4D3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2E299-9E02-40A2-A550-BC4F017D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C40-5679-423C-AB35-6B08F719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3074C-53C5-47FC-B4ED-64EBAC55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D8E7F-CF8A-4F7D-91BD-2C2C9893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F04F3-EA12-46C0-8A86-16C9E593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FA05C-2F10-465B-9684-4EBA8131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DC281-CF7C-4DDA-8D96-FA30F19F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39A14-3FB9-4215-A77F-275A7401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CC95D-7785-4ACB-8A83-58FABFA2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9FEA9-F07B-4628-8BF4-A20EF779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015E0-CDFC-4E41-827C-689A9A78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D74EB-AF6D-428B-AEAA-06E5E411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A22D-16A2-47D0-84BD-7753CCB6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585B4-8A20-4486-A66D-961CB573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3B5B5-5361-4A42-93AF-FED6B407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DB4A3-D342-4C34-846A-9708DD97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E249-E007-487D-91C7-7A627F57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376E-C9FB-4FE8-91AF-45982160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A766-52F1-4A76-A52C-323ACA54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6181-A406-46CA-982A-6EAF05D6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9776-3C66-4893-B251-156F1E8D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12FE-D9CD-4685-A6B8-99F1DBAB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3BB-1088-4642-B0A6-8C05DF44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0C1F-FE3B-4E0D-89EB-B3C0F06D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15E3-5320-4E06-8682-2EBB21A9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0A0F-C34E-45E8-9EFF-5EC7F020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697F-DFE9-45BD-A5EA-B23AF4CB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78D9-4F18-46E8-98D2-88B7D2CD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AA74-135E-46D9-B066-2C5E6A41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DC25-F976-4BC3-9C46-FA5BE96B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4FB94-6B37-4091-B9B1-F7823E4C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6B90-9B34-4585-B3F2-E9D72369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FFB6-8B9A-43CB-979A-E522DCC0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51D-16E7-4A59-96AE-9610F470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F9E09-65F7-414C-8196-8231ACB9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09A78-3B2E-418A-B2E9-90869327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2DA43-ECFD-4EC6-953C-C56F7B80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79EE-0444-4108-9554-B18B9D95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11C05-52E9-42EB-B5BD-45732B04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D6214-E815-405C-8CDF-7BCEF508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A0321-0536-404C-8632-C58FAA40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D656E-6B4E-4553-B765-AF6DD1F8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FE08-FC9E-435B-9118-29708BBC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A4B80-4B33-4A0E-BE35-4F8AEC7D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703-29AB-4FED-820E-7900F2E1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94F2E-77F1-4197-8268-DBDD5B64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3E70-E67D-4925-BD2B-84926FE4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7A36E-C011-49CE-8CA2-FE052D4B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97AC-7303-4187-89D0-336CF605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277DF-E9F9-4B9F-B63E-9609623F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3829-DE67-42F1-AFBB-940EF5F9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1E3E2-EC36-41E4-9A8B-A99E3E09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C132-7DC1-4E10-8950-F157C392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13882-37F2-4BA6-BB2D-E1741633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D3570-B373-406A-9295-7A0E9750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223-8A2C-4E19-AC13-6C5B1D7B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439F0-0884-4CDE-8767-B88E7354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05720-C824-4DA4-A6CF-793A945A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EF8A5-E8E1-4A36-A96D-599E71D0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66E35-02DC-4760-B425-0F2A89C3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5F63B-C887-42A2-978E-CFC4E196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B2384-74C0-4203-8465-370DA4DF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838E1-6494-4169-9A62-789D9729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0F549-E522-4D40-B49F-5B527403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6D474-72B6-4C7E-A7D8-D061A88D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A6ABC-6047-4AE7-8B67-E7D131C7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FC0-9208-45F8-BB3A-F8E1D77E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B8FC4-5A16-40E9-B12B-4B4281B0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4BA0B-C483-47F6-BE28-AC702B60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85611-3CAC-4744-A4A9-AECDBCDE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688DD-E8FF-4C86-8FD2-0B385E76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423EE-5DB7-4501-9155-D642459A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20320-26D4-44DD-9B0C-BB49D53D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B8BE9-21C2-404C-9D64-413D1797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2C95E-0FD9-4D72-89A2-D66542E9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4E820-4299-46EC-8C72-BD6B4774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746A9-BAFE-4C03-8040-A1A846C0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DD0-EDBF-4DEA-987C-E315DFDA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93EE5-EF34-4D76-8EBD-6D1CB525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0D01A-C50A-4350-9752-0737D0AD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B8D5A-8EC8-40F5-8632-ABC0D997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59199-3861-41AD-A2BB-D0F3DAB0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83411-2C7B-490C-9A1D-CBECB483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14AFE-A209-4954-9A37-DC1FF16F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86EEA-0FB6-4154-81C0-D8039103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6E60D-130F-409B-A07A-D62B871A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1952B-3624-422C-963F-723F45E7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D3B36-DA4B-4C99-AE60-69BC499E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892-3AEB-4937-870F-82960D5D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83990-A707-4374-BE57-0692B987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972A-4FEE-45E3-9005-D9DB5EFA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36F14-53B9-4501-93EE-AABE5B1A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0EDA3-BE24-44E0-BD94-A38CEE3E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035AD-F001-4FC6-9907-9119F44A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5FEAE-6665-491A-A4BF-BC014090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99224-4D8E-42A7-A36A-F5E7107B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9A6F6-69B6-4225-B4EC-1C888870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20667-48FF-48B4-B1F7-A265826D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1FB29-FC9B-4845-8644-9E015FFC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8EC-4B43-412A-BD7E-1E1FFF2E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A7B73-757A-48DF-8447-8E9E90F8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708C7-4B57-470A-A3DA-22CE1A9E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D7376-7530-4131-9FEC-55CB2799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A1035-D73F-464F-83A0-1AA8988B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169AB-FCF1-4A05-8BC0-4F5197B2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CE01C-06DB-43CD-81AB-9009531B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21DA0-C58D-459C-B756-22325DD4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075FE-E2A3-47A9-867F-EB812DF7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BAFFC-BA1F-4949-B9EE-45DFF289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EC096-437B-4688-A5BC-9FDF13F8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0805-2F67-4132-96CD-839C65A1FC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C0AE-CB49-45FE-ADB8-E30BEF0738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7304-997B-4932-A2C4-6098ACDBC0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5DCB-B8E6-4F98-873B-20F0AACA17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AA3E-3D69-4BCA-8C4A-D1340F9C22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BA8D-E4C4-4947-BC8A-B039CF5C2C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A642-883F-4BB7-9273-2CC106A0E6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84E1-2657-4CB9-946B-38E1A191AE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BC8B-1E23-4B74-B43F-787BC96D46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14F5-0166-4094-98A9-BFC6343E7C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D953-7E08-41F5-9A2D-7E71E780C6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ip.org/history/electron/jjappara.htm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CHAPTER 4/25 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Atomic Structu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Nuclear Chemistr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utherford’s Conclus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514" name="Picture 8" descr="scattering"/>
          <p:cNvPicPr/>
          <p:nvPr/>
        </p:nvPicPr>
        <p:blipFill>
          <a:blip r:embed="rId1"/>
          <a:stretch/>
        </p:blipFill>
        <p:spPr>
          <a:xfrm>
            <a:off x="1066680" y="1905120"/>
            <a:ext cx="7543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Rutherford's Nuclear Model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07720" y="8380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1. The atom contains a tiny dense center called the nucleu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volume is about 1/10 trillionth the volume of the atom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2. The nucleus is essentially the entire mass of the ato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3. The nucleus is positively charg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amount of positive charge of the nucleus balances the negative charge of the electron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4. The electrons move around in the empty space of th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tom surrounding the nucle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Coworker James Chadwick later adds neutr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roperties of Subatomic Partic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228600" y="1828800"/>
          <a:ext cx="8534520" cy="3413160"/>
        </p:xfrm>
        <a:graphic>
          <a:graphicData uri="http://schemas.openxmlformats.org/drawingml/2006/table">
            <a:tbl>
              <a:tblPr/>
              <a:tblGrid>
                <a:gridCol w="1066680"/>
                <a:gridCol w="990720"/>
                <a:gridCol w="2133720"/>
                <a:gridCol w="1322280"/>
                <a:gridCol w="1430280"/>
                <a:gridCol w="159084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Particl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Relativ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Electrical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Relative Mass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Actual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Mass (g)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Electron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000" spc="-1" strike="noStrike" baseline="30000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Space surrounding the nucleus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-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 u="sng">
                          <a:solidFill>
                            <a:srgbClr val="292934"/>
                          </a:solidFill>
                          <a:uFillTx/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 u="sng">
                          <a:solidFill>
                            <a:srgbClr val="292934"/>
                          </a:solidFill>
                          <a:uFillTx/>
                          <a:latin typeface="Times New Roman"/>
                          <a:ea typeface="Times New Roman"/>
                        </a:rPr>
                        <a:t>1_</a:t>
                      </a: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 u="sng">
                          <a:solidFill>
                            <a:srgbClr val="292934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840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9.11 x 10</a:t>
                      </a:r>
                      <a:r>
                        <a:rPr b="0" lang="en-US" sz="2000" spc="-1" strike="noStrike" baseline="30000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-28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Proton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000" spc="-1" strike="noStrike" baseline="30000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.637 x 10</a:t>
                      </a:r>
                      <a:r>
                        <a:rPr b="0" lang="en-US" sz="2000" spc="-1" strike="noStrike" baseline="30000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-24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Neutron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1.675 x 10</a:t>
                      </a:r>
                      <a:r>
                        <a:rPr b="0" lang="en-US" sz="2000" spc="-1" strike="noStrike" baseline="30000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-24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Understanding Periodic Block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520" name="Rectangle 5" descr=""/>
          <p:cNvPicPr/>
          <p:nvPr/>
        </p:nvPicPr>
        <p:blipFill>
          <a:blip r:embed="rId1"/>
          <a:stretch/>
        </p:blipFill>
        <p:spPr>
          <a:xfrm>
            <a:off x="407880" y="1603440"/>
            <a:ext cx="8278920" cy="48765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357800" y="1600200"/>
            <a:ext cx="3695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tomic Numb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# of prot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# of electr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lement Symbol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tomic Mas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weighted average   atomic mass of isotopes of an atom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2" name="Line 8"/>
          <p:cNvSpPr/>
          <p:nvPr/>
        </p:nvSpPr>
        <p:spPr>
          <a:xfrm flipH="1" flipV="1">
            <a:off x="1752480" y="2857320"/>
            <a:ext cx="2438640" cy="1904760"/>
          </a:xfrm>
          <a:prstGeom prst="line">
            <a:avLst/>
          </a:prstGeom>
          <a:ln w="936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23" name="Line 9"/>
          <p:cNvSpPr/>
          <p:nvPr/>
        </p:nvSpPr>
        <p:spPr>
          <a:xfrm flipH="1" flipV="1">
            <a:off x="1600200" y="2215800"/>
            <a:ext cx="2743200" cy="1066680"/>
          </a:xfrm>
          <a:prstGeom prst="line">
            <a:avLst/>
          </a:prstGeom>
          <a:ln w="936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24" name="Line 10"/>
          <p:cNvSpPr/>
          <p:nvPr/>
        </p:nvSpPr>
        <p:spPr>
          <a:xfrm flipH="1">
            <a:off x="1447920" y="1828800"/>
            <a:ext cx="2743200" cy="0"/>
          </a:xfrm>
          <a:prstGeom prst="line">
            <a:avLst/>
          </a:prstGeom>
          <a:ln w="936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25" name="TextBox 1"/>
          <p:cNvSpPr/>
          <p:nvPr/>
        </p:nvSpPr>
        <p:spPr>
          <a:xfrm>
            <a:off x="412920" y="4782960"/>
            <a:ext cx="3396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ass Number      </a:t>
            </a:r>
            <a:r>
              <a:rPr b="0" lang="en-US" sz="2400" spc="-1" strike="noStrike">
                <a:solidFill>
                  <a:srgbClr val="292934"/>
                </a:solidFill>
                <a:latin typeface="Tahoma"/>
              </a:rPr>
              <a:t>#protons + # neutrons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526" name="TextBox 2" descr=""/>
          <p:cNvPicPr/>
          <p:nvPr/>
        </p:nvPicPr>
        <p:blipFill>
          <a:blip r:embed="rId2"/>
          <a:stretch/>
        </p:blipFill>
        <p:spPr>
          <a:xfrm>
            <a:off x="3505320" y="4705200"/>
            <a:ext cx="9144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an 20.0983 Neutrons Exist??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No, 39.0983 is an average mass of all natural K ato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ll K atoms MUST have 19 prot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ome have 20 neutrons, some 19, some 21…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verage is 20.0983 neutr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ndividual isotopes are identified by the number of </a:t>
            </a:r>
            <a:r>
              <a:rPr b="0" lang="en-US" sz="2800" spc="-1" strike="noStrike" u="sng">
                <a:solidFill>
                  <a:srgbClr val="292934"/>
                </a:solidFill>
                <a:uFillTx/>
                <a:latin typeface="Arial"/>
              </a:rPr>
              <a:t>neutr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Identifying Protons, Neutrons, and Electron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hlorine-35 (element-mass number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# of protons = 17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# electrons = # prot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# neutrons = mass number – prot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35-17 = 18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Why no electrons in atomic mass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Electron has mass 1/1837 of Proton and Neutr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457200" y="533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sotopes</a:t>
            </a:r>
            <a:endParaRPr b="0" lang="en-US" sz="40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32" name="TextBox 3"/>
          <p:cNvSpPr/>
          <p:nvPr/>
        </p:nvSpPr>
        <p:spPr>
          <a:xfrm>
            <a:off x="460440" y="1366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Nuclear Notation     or         Isotope Notation 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533" name="TextBox 7" descr=""/>
          <p:cNvPicPr/>
          <p:nvPr/>
        </p:nvPicPr>
        <p:blipFill>
          <a:blip r:embed="rId1"/>
          <a:stretch/>
        </p:blipFill>
        <p:spPr>
          <a:xfrm>
            <a:off x="487440" y="2004840"/>
            <a:ext cx="6492960" cy="878040"/>
          </a:xfrm>
          <a:prstGeom prst="rect">
            <a:avLst/>
          </a:prstGeom>
          <a:ln w="0">
            <a:noFill/>
          </a:ln>
        </p:spPr>
      </p:pic>
      <p:sp>
        <p:nvSpPr>
          <p:cNvPr id="534" name="TextBox 8"/>
          <p:cNvSpPr/>
          <p:nvPr/>
        </p:nvSpPr>
        <p:spPr>
          <a:xfrm>
            <a:off x="1787400" y="2873520"/>
            <a:ext cx="4572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# protons   = ______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# neutrons = ______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# electrons = ______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35" name="TextBox 9"/>
          <p:cNvSpPr/>
          <p:nvPr/>
        </p:nvSpPr>
        <p:spPr>
          <a:xfrm>
            <a:off x="685800" y="4826160"/>
            <a:ext cx="746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Problems that  can arise..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92934"/>
                </a:solidFill>
                <a:uFillTx/>
                <a:latin typeface="Tahoma"/>
              </a:rPr>
              <a:t>Charges and Ions 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– Only changes the number of electrons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92934"/>
                </a:solidFill>
                <a:uFillTx/>
                <a:latin typeface="Tahoma"/>
              </a:rPr>
              <a:t>Finding the mass number 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– use symbol, p</a:t>
            </a:r>
            <a:r>
              <a:rPr b="0" lang="en-US" sz="1800" spc="-1" strike="noStrike" baseline="30000">
                <a:solidFill>
                  <a:srgbClr val="292934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and n</a:t>
            </a:r>
            <a:r>
              <a:rPr b="0" lang="en-US" sz="1800" spc="-1" strike="noStrike" baseline="30000">
                <a:solidFill>
                  <a:srgbClr val="292934"/>
                </a:solidFill>
                <a:latin typeface="Tahoma"/>
              </a:rPr>
              <a:t>o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or periodic table in that order!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tomic Mass Uni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arbon-12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6 prot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6 neutr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tomic mass unit is equal to one-twelfth of the mass of the nucleus of a carbon-12 ato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tomic Mass Problem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555480" y="1744560"/>
            <a:ext cx="8131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oron has two naturally occurring isotopes: boron-10 (19.8%, 10.013 amu) and boron 11 (80.2%, 11.009 amu).  What is the atomic mass of boron?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Find the Abundance x Mass for each isotope and then add products together.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0.198 x 10.013 = 1.98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92934"/>
                </a:solidFill>
                <a:uFillTx/>
                <a:latin typeface="Arial"/>
              </a:rPr>
              <a:t>0.802 x 11.009 = 8.83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1.000                 10.81 amu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6"/>
          <p:cNvGrpSpPr/>
          <p:nvPr/>
        </p:nvGrpSpPr>
        <p:grpSpPr>
          <a:xfrm>
            <a:off x="660240" y="907920"/>
            <a:ext cx="7372440" cy="4289400"/>
            <a:chOff x="660240" y="907920"/>
            <a:chExt cx="7372440" cy="4289400"/>
          </a:xfrm>
        </p:grpSpPr>
        <p:pic>
          <p:nvPicPr>
            <p:cNvPr id="541" name="Picture 10" descr="http://www.green-planet-solar-energy.com/images/PT-blank-1.gif"/>
            <p:cNvPicPr/>
            <p:nvPr/>
          </p:nvPicPr>
          <p:blipFill>
            <a:blip r:embed="rId1"/>
            <a:stretch/>
          </p:blipFill>
          <p:spPr>
            <a:xfrm>
              <a:off x="660240" y="907920"/>
              <a:ext cx="7372440" cy="42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Rectangle 8"/>
            <p:cNvSpPr/>
            <p:nvPr/>
          </p:nvSpPr>
          <p:spPr>
            <a:xfrm>
              <a:off x="660240" y="2355480"/>
              <a:ext cx="7240680" cy="530640"/>
            </a:xfrm>
            <a:prstGeom prst="rect">
              <a:avLst/>
            </a:prstGeom>
            <a:solidFill>
              <a:srgbClr val="bd867c">
                <a:alpha val="52000"/>
              </a:srgbClr>
            </a:solidFill>
            <a:ln w="82440">
              <a:solidFill>
                <a:srgbClr val="a539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9463d"/>
                  </a:solidFill>
                  <a:latin typeface="Arial"/>
                </a:rPr>
                <a:t>                                                          </a:t>
              </a:r>
              <a:r>
                <a:rPr b="0" lang="en-US" sz="2800" spc="-1" strike="noStrike">
                  <a:solidFill>
                    <a:srgbClr val="292934"/>
                  </a:solidFill>
                  <a:latin typeface="Arial"/>
                </a:rPr>
                <a:t>Period</a:t>
              </a: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43" name="Rectangle 4"/>
            <p:cNvSpPr/>
            <p:nvPr/>
          </p:nvSpPr>
          <p:spPr>
            <a:xfrm>
              <a:off x="660240" y="1212480"/>
              <a:ext cx="547200" cy="2813760"/>
            </a:xfrm>
            <a:prstGeom prst="rect">
              <a:avLst/>
            </a:prstGeom>
            <a:solidFill>
              <a:srgbClr val="bd867c">
                <a:alpha val="46000"/>
              </a:srgbClr>
            </a:solidFill>
            <a:ln w="82440">
              <a:solidFill>
                <a:srgbClr val="a539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34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34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34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34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34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292934"/>
                </a:solidFill>
                <a:latin typeface="Tahoma"/>
              </a:endParaRPr>
            </a:p>
          </p:txBody>
        </p:sp>
      </p:grpSp>
      <p:sp>
        <p:nvSpPr>
          <p:cNvPr id="544" name="TextBox 5"/>
          <p:cNvSpPr/>
          <p:nvPr/>
        </p:nvSpPr>
        <p:spPr>
          <a:xfrm>
            <a:off x="706320" y="4525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Tahoma"/>
              </a:rPr>
              <a:t>Organization of the Periodic Table</a:t>
            </a:r>
            <a:endParaRPr b="0" lang="en-US" sz="36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45" name="TextBox 7"/>
          <p:cNvSpPr/>
          <p:nvPr/>
        </p:nvSpPr>
        <p:spPr>
          <a:xfrm>
            <a:off x="-44280" y="5791320"/>
            <a:ext cx="93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There are 18 groups and 7 periods in the periodic table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 Long, Long Time Ago…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Greek Philosopher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4 elements are Earth, Water, Fire, and Ai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Aristotl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- first recorded atomic though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tter is continuous (no atoms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critus (400 B.C.)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- first recorded atomic theor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toms are smallest part of matter, each type of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tter has different ato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739800" cy="895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"/>
          <p:cNvPicPr/>
          <p:nvPr/>
        </p:nvPicPr>
        <p:blipFill>
          <a:blip r:embed="rId2"/>
          <a:stretch/>
        </p:blipFill>
        <p:spPr>
          <a:xfrm>
            <a:off x="546120" y="4533840"/>
            <a:ext cx="8445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hemical vs. Nuclear Chang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09760" indent="-4953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92934"/>
                </a:solidFill>
                <a:uFillTx/>
                <a:latin typeface="Arial"/>
              </a:rPr>
              <a:t>Chemical Change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- produces new kinds of matter with new properti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volves breaking and forming BOND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ccomplished by rearrangement of ELECTR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1409760" indent="-4953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92934"/>
                </a:solidFill>
                <a:uFillTx/>
                <a:latin typeface="Arial"/>
              </a:rPr>
              <a:t>Nuclear Change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- produces a new nucleus that contains less energy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volves emission or capture of nuclear partic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ccomplished by changing PROTONS and NEUTRONS in nucle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46"/>
          <p:cNvSpPr/>
          <p:nvPr/>
        </p:nvSpPr>
        <p:spPr>
          <a:xfrm>
            <a:off x="6686640" y="505296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49" name="Rectangle 44"/>
          <p:cNvSpPr/>
          <p:nvPr/>
        </p:nvSpPr>
        <p:spPr>
          <a:xfrm>
            <a:off x="4457880" y="505296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0" name="Rectangle 42"/>
          <p:cNvSpPr/>
          <p:nvPr/>
        </p:nvSpPr>
        <p:spPr>
          <a:xfrm>
            <a:off x="1905120" y="5052960"/>
            <a:ext cx="2552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1" name="Rectangle 40"/>
          <p:cNvSpPr/>
          <p:nvPr/>
        </p:nvSpPr>
        <p:spPr>
          <a:xfrm>
            <a:off x="0" y="505296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Actual Hazard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2" name="Rectangle 24"/>
          <p:cNvSpPr/>
          <p:nvPr/>
        </p:nvSpPr>
        <p:spPr>
          <a:xfrm>
            <a:off x="6686640" y="410832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Low-Med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3" name="Rectangle 23"/>
          <p:cNvSpPr/>
          <p:nvPr/>
        </p:nvSpPr>
        <p:spPr>
          <a:xfrm>
            <a:off x="4457880" y="410832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4" name="Rectangle 22"/>
          <p:cNvSpPr/>
          <p:nvPr/>
        </p:nvSpPr>
        <p:spPr>
          <a:xfrm>
            <a:off x="1905120" y="4108320"/>
            <a:ext cx="2552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5" name="Rectangle 21"/>
          <p:cNvSpPr/>
          <p:nvPr/>
        </p:nvSpPr>
        <p:spPr>
          <a:xfrm>
            <a:off x="0" y="410832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Biological Hazard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6686640" y="329724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7" name="Rectangle 19"/>
          <p:cNvSpPr/>
          <p:nvPr/>
        </p:nvSpPr>
        <p:spPr>
          <a:xfrm>
            <a:off x="4457880" y="329724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8" name="Rectangle 18"/>
          <p:cNvSpPr/>
          <p:nvPr/>
        </p:nvSpPr>
        <p:spPr>
          <a:xfrm>
            <a:off x="1905120" y="3297240"/>
            <a:ext cx="2552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59" name="Rectangle 17"/>
          <p:cNvSpPr/>
          <p:nvPr/>
        </p:nvSpPr>
        <p:spPr>
          <a:xfrm>
            <a:off x="0" y="3297240"/>
            <a:ext cx="19051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Energy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0" name="Rectangle 16"/>
          <p:cNvSpPr/>
          <p:nvPr/>
        </p:nvSpPr>
        <p:spPr>
          <a:xfrm>
            <a:off x="6686640" y="1925640"/>
            <a:ext cx="222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Hard (2 cm lead)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4457880" y="1925640"/>
            <a:ext cx="222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edium (aluminum foil)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2" name="Rectangle 14"/>
          <p:cNvSpPr/>
          <p:nvPr/>
        </p:nvSpPr>
        <p:spPr>
          <a:xfrm>
            <a:off x="1905120" y="1925640"/>
            <a:ext cx="2552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Easy 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(skin/clothes)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3" name="Rectangle 13"/>
          <p:cNvSpPr/>
          <p:nvPr/>
        </p:nvSpPr>
        <p:spPr>
          <a:xfrm>
            <a:off x="0" y="192564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Shielding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6686640" y="1116000"/>
            <a:ext cx="2228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292934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292934"/>
                </a:solidFill>
                <a:latin typeface="Tahoma"/>
              </a:rPr>
              <a:t>0</a:t>
            </a:r>
            <a:r>
              <a:rPr b="0" lang="el-GR" sz="2800" spc="-1" strike="noStrike">
                <a:solidFill>
                  <a:srgbClr val="292934"/>
                </a:solidFill>
                <a:latin typeface="Tahoma"/>
              </a:rPr>
              <a:t>γ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5" name="Rectangle 11"/>
          <p:cNvSpPr/>
          <p:nvPr/>
        </p:nvSpPr>
        <p:spPr>
          <a:xfrm>
            <a:off x="4457880" y="1116000"/>
            <a:ext cx="2228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292934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292934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1905120" y="1116000"/>
            <a:ext cx="2552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292934"/>
                </a:solidFill>
                <a:latin typeface="Tahoma"/>
              </a:rPr>
              <a:t>4</a:t>
            </a:r>
            <a:r>
              <a:rPr b="0" lang="en-US" sz="2800" spc="-1" strike="noStrike" baseline="-25000">
                <a:solidFill>
                  <a:srgbClr val="292934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He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0" y="1116000"/>
            <a:ext cx="19051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Symbol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6686640" y="30492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GAMMA (</a:t>
            </a:r>
            <a:r>
              <a:rPr b="0" lang="el-GR" sz="2800" spc="-1" strike="noStrike">
                <a:solidFill>
                  <a:srgbClr val="292934"/>
                </a:solidFill>
                <a:latin typeface="Tahoma"/>
              </a:rPr>
              <a:t>γ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4457880" y="30492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BETA (</a:t>
            </a:r>
            <a:r>
              <a:rPr b="0" lang="el-GR" sz="2800" spc="-1" strike="noStrike">
                <a:solidFill>
                  <a:srgbClr val="292934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1905120" y="304920"/>
            <a:ext cx="2552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ALPHA (</a:t>
            </a:r>
            <a:r>
              <a:rPr b="0" lang="el-GR" sz="2800" spc="-1" strike="noStrike">
                <a:solidFill>
                  <a:srgbClr val="292934"/>
                </a:solidFill>
                <a:latin typeface="Tahoma"/>
              </a:rPr>
              <a:t>α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0" y="304920"/>
            <a:ext cx="19051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2" name="Line 25"/>
          <p:cNvSpPr/>
          <p:nvPr/>
        </p:nvSpPr>
        <p:spPr>
          <a:xfrm>
            <a:off x="0" y="304920"/>
            <a:ext cx="8915400" cy="0"/>
          </a:xfrm>
          <a:prstGeom prst="line">
            <a:avLst/>
          </a:prstGeom>
          <a:ln cap="sq" w="2844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3" name="Line 26"/>
          <p:cNvSpPr/>
          <p:nvPr/>
        </p:nvSpPr>
        <p:spPr>
          <a:xfrm>
            <a:off x="0" y="1116000"/>
            <a:ext cx="8915400" cy="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4" name="Line 27"/>
          <p:cNvSpPr/>
          <p:nvPr/>
        </p:nvSpPr>
        <p:spPr>
          <a:xfrm>
            <a:off x="0" y="1925640"/>
            <a:ext cx="8915400" cy="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5" name="Line 28"/>
          <p:cNvSpPr/>
          <p:nvPr/>
        </p:nvSpPr>
        <p:spPr>
          <a:xfrm>
            <a:off x="0" y="3297240"/>
            <a:ext cx="8915400" cy="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6" name="Line 29"/>
          <p:cNvSpPr/>
          <p:nvPr/>
        </p:nvSpPr>
        <p:spPr>
          <a:xfrm>
            <a:off x="0" y="4108320"/>
            <a:ext cx="8915400" cy="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7" name="Line 30"/>
          <p:cNvSpPr/>
          <p:nvPr/>
        </p:nvSpPr>
        <p:spPr>
          <a:xfrm>
            <a:off x="0" y="5997600"/>
            <a:ext cx="8915400" cy="0"/>
          </a:xfrm>
          <a:prstGeom prst="line">
            <a:avLst/>
          </a:prstGeom>
          <a:ln cap="sq" w="2844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8" name="Line 31"/>
          <p:cNvSpPr/>
          <p:nvPr/>
        </p:nvSpPr>
        <p:spPr>
          <a:xfrm>
            <a:off x="0" y="304920"/>
            <a:ext cx="0" cy="5692680"/>
          </a:xfrm>
          <a:prstGeom prst="line">
            <a:avLst/>
          </a:prstGeom>
          <a:ln cap="sq" w="2844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79" name="Line 32"/>
          <p:cNvSpPr/>
          <p:nvPr/>
        </p:nvSpPr>
        <p:spPr>
          <a:xfrm>
            <a:off x="1905120" y="304920"/>
            <a:ext cx="0" cy="569268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80" name="Line 33"/>
          <p:cNvSpPr/>
          <p:nvPr/>
        </p:nvSpPr>
        <p:spPr>
          <a:xfrm>
            <a:off x="4457880" y="304920"/>
            <a:ext cx="0" cy="569268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81" name="Line 34"/>
          <p:cNvSpPr/>
          <p:nvPr/>
        </p:nvSpPr>
        <p:spPr>
          <a:xfrm>
            <a:off x="6686640" y="304920"/>
            <a:ext cx="0" cy="569268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82" name="Line 35"/>
          <p:cNvSpPr/>
          <p:nvPr/>
        </p:nvSpPr>
        <p:spPr>
          <a:xfrm>
            <a:off x="8915400" y="304920"/>
            <a:ext cx="0" cy="5692680"/>
          </a:xfrm>
          <a:prstGeom prst="line">
            <a:avLst/>
          </a:prstGeom>
          <a:ln cap="sq" w="2844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83" name="Line 41"/>
          <p:cNvSpPr/>
          <p:nvPr/>
        </p:nvSpPr>
        <p:spPr>
          <a:xfrm>
            <a:off x="0" y="5052960"/>
            <a:ext cx="8915400" cy="0"/>
          </a:xfrm>
          <a:prstGeom prst="line">
            <a:avLst/>
          </a:prstGeom>
          <a:ln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Other Radia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onizing Radiation- has significant energy to change atoms and molecules into i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Types: alpha, beta, gamma, x-ray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Effects to living organisms: changes in, DNA (cell death/cancer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784520" indent="-41292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660240" indent="-66024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Nonionizing radiation- does not have significant energy to ionize atoms or molecules (types: microwaves, visible light, radiowaves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d2533c"/>
                </a:solidFill>
                <a:latin typeface="Arial"/>
              </a:rPr>
              <a:t>Nuclear Stability</a:t>
            </a:r>
            <a:br>
              <a:rPr sz="3100"/>
            </a:br>
            <a:r>
              <a:rPr b="0" lang="en-US" sz="2500" spc="-1" strike="noStrike">
                <a:solidFill>
                  <a:srgbClr val="d2533c"/>
                </a:solidFill>
                <a:latin typeface="Arial"/>
              </a:rPr>
              <a:t>(Electrostatic Force vs. Nuclear Force)</a:t>
            </a:r>
            <a:endParaRPr b="0" lang="en-US" sz="25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lectrostatic force arises from the interaction between two protons (repulsive forc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uclear force arises between protons and neutrons due to their close proximity to one anothe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8" name="Oval 5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f3f2dc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grpSp>
        <p:nvGrpSpPr>
          <p:cNvPr id="589" name="Group 19"/>
          <p:cNvGrpSpPr/>
          <p:nvPr/>
        </p:nvGrpSpPr>
        <p:grpSpPr>
          <a:xfrm>
            <a:off x="3848040" y="2413080"/>
            <a:ext cx="1143000" cy="990360"/>
            <a:chOff x="3848040" y="2413080"/>
            <a:chExt cx="1143000" cy="990360"/>
          </a:xfrm>
        </p:grpSpPr>
        <p:sp>
          <p:nvSpPr>
            <p:cNvPr id="590" name="Oval 18"/>
            <p:cNvSpPr/>
            <p:nvPr/>
          </p:nvSpPr>
          <p:spPr>
            <a:xfrm>
              <a:off x="4000320" y="248904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1" name="Oval 12"/>
            <p:cNvSpPr/>
            <p:nvPr/>
          </p:nvSpPr>
          <p:spPr>
            <a:xfrm>
              <a:off x="4457520" y="294624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2" name="Oval 4"/>
            <p:cNvSpPr/>
            <p:nvPr/>
          </p:nvSpPr>
          <p:spPr>
            <a:xfrm>
              <a:off x="4305240" y="3098880"/>
              <a:ext cx="30492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3" name="Oval 10"/>
            <p:cNvSpPr/>
            <p:nvPr/>
          </p:nvSpPr>
          <p:spPr>
            <a:xfrm>
              <a:off x="4686120" y="2717640"/>
              <a:ext cx="304920" cy="30492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4" name="Oval 11"/>
            <p:cNvSpPr/>
            <p:nvPr/>
          </p:nvSpPr>
          <p:spPr>
            <a:xfrm>
              <a:off x="4076640" y="302256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5" name="Oval 13"/>
            <p:cNvSpPr/>
            <p:nvPr/>
          </p:nvSpPr>
          <p:spPr>
            <a:xfrm>
              <a:off x="4533840" y="248904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6" name="Oval 15"/>
            <p:cNvSpPr/>
            <p:nvPr/>
          </p:nvSpPr>
          <p:spPr>
            <a:xfrm>
              <a:off x="4152960" y="241308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7" name="Oval 16"/>
            <p:cNvSpPr/>
            <p:nvPr/>
          </p:nvSpPr>
          <p:spPr>
            <a:xfrm>
              <a:off x="3848040" y="2793960"/>
              <a:ext cx="304920" cy="30492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8" name="Oval 6"/>
            <p:cNvSpPr/>
            <p:nvPr/>
          </p:nvSpPr>
          <p:spPr>
            <a:xfrm>
              <a:off x="4457520" y="271764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599" name="Oval 7"/>
            <p:cNvSpPr/>
            <p:nvPr/>
          </p:nvSpPr>
          <p:spPr>
            <a:xfrm>
              <a:off x="4000320" y="271764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600" name="Oval 8"/>
            <p:cNvSpPr/>
            <p:nvPr/>
          </p:nvSpPr>
          <p:spPr>
            <a:xfrm>
              <a:off x="4228920" y="2946240"/>
              <a:ext cx="304920" cy="304920"/>
            </a:xfrm>
            <a:prstGeom prst="ellipse">
              <a:avLst/>
            </a:prstGeom>
            <a:solidFill>
              <a:srgbClr val="f3f2dc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  <p:sp>
          <p:nvSpPr>
            <p:cNvPr id="601" name="Oval 9"/>
            <p:cNvSpPr/>
            <p:nvPr/>
          </p:nvSpPr>
          <p:spPr>
            <a:xfrm>
              <a:off x="4228920" y="2717640"/>
              <a:ext cx="304920" cy="30492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d2533c"/>
                </a:solidFill>
                <a:latin typeface="Arial"/>
              </a:rPr>
              <a:t>Neutron to Proton Ration and the Band of Stability</a:t>
            </a:r>
            <a:endParaRPr b="0" lang="en-US" sz="31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5715000" y="3505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4952880" y="2819520"/>
            <a:ext cx="396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s the atomic number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creases, more and more 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eutrons are needed to 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reate a strong nuclear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rce to oppose and 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creasing electrostatic 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grpSp>
        <p:nvGrpSpPr>
          <p:cNvPr id="605" name="Group 16"/>
          <p:cNvGrpSpPr/>
          <p:nvPr/>
        </p:nvGrpSpPr>
        <p:grpSpPr>
          <a:xfrm>
            <a:off x="838080" y="1905120"/>
            <a:ext cx="4038840" cy="4647960"/>
            <a:chOff x="838080" y="1905120"/>
            <a:chExt cx="4038840" cy="4647960"/>
          </a:xfrm>
        </p:grpSpPr>
        <p:grpSp>
          <p:nvGrpSpPr>
            <p:cNvPr id="606" name="Group 14"/>
            <p:cNvGrpSpPr/>
            <p:nvPr/>
          </p:nvGrpSpPr>
          <p:grpSpPr>
            <a:xfrm>
              <a:off x="838080" y="1905120"/>
              <a:ext cx="4038840" cy="4647960"/>
              <a:chOff x="838080" y="1905120"/>
              <a:chExt cx="4038840" cy="4647960"/>
            </a:xfrm>
          </p:grpSpPr>
          <p:pic>
            <p:nvPicPr>
              <p:cNvPr id="607" name="Picture 5" descr="5cb2c6e6-0c3d-4a4a-919a-30f7c103c41d"/>
              <p:cNvPicPr/>
              <p:nvPr/>
            </p:nvPicPr>
            <p:blipFill>
              <a:blip r:embed="rId1"/>
              <a:stretch/>
            </p:blipFill>
            <p:spPr>
              <a:xfrm>
                <a:off x="838080" y="2362320"/>
                <a:ext cx="3903840" cy="419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Rectangle 7"/>
              <p:cNvSpPr/>
              <p:nvPr/>
            </p:nvSpPr>
            <p:spPr>
              <a:xfrm>
                <a:off x="3886200" y="335268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Tahoma"/>
                </a:endParaRPr>
              </a:p>
            </p:txBody>
          </p:sp>
          <p:sp>
            <p:nvSpPr>
              <p:cNvPr id="609" name="Rectangle 9"/>
              <p:cNvSpPr/>
              <p:nvPr/>
            </p:nvSpPr>
            <p:spPr>
              <a:xfrm>
                <a:off x="838080" y="2971800"/>
                <a:ext cx="15264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Tahoma"/>
                </a:endParaRPr>
              </a:p>
            </p:txBody>
          </p:sp>
          <p:sp>
            <p:nvSpPr>
              <p:cNvPr id="610" name="Text Box 10"/>
              <p:cNvSpPr/>
              <p:nvPr/>
            </p:nvSpPr>
            <p:spPr>
              <a:xfrm>
                <a:off x="4114800" y="25909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34"/>
                    </a:solidFill>
                    <a:latin typeface="Arial"/>
                  </a:rPr>
                  <a:t>1:1</a:t>
                </a:r>
                <a:endParaRPr b="0" lang="en-US" sz="1800" spc="-1" strike="noStrike">
                  <a:solidFill>
                    <a:srgbClr val="292934"/>
                  </a:solidFill>
                  <a:latin typeface="Tahoma"/>
                </a:endParaRPr>
              </a:p>
            </p:txBody>
          </p:sp>
          <p:sp>
            <p:nvSpPr>
              <p:cNvPr id="611" name="Line 11"/>
              <p:cNvSpPr/>
              <p:nvPr/>
            </p:nvSpPr>
            <p:spPr>
              <a:xfrm flipV="1">
                <a:off x="1295280" y="2286000"/>
                <a:ext cx="1981440" cy="358128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Tahoma"/>
                </a:endParaRPr>
              </a:p>
            </p:txBody>
          </p:sp>
          <p:sp>
            <p:nvSpPr>
              <p:cNvPr id="612" name="Text Box 12"/>
              <p:cNvSpPr/>
              <p:nvPr/>
            </p:nvSpPr>
            <p:spPr>
              <a:xfrm>
                <a:off x="2895480" y="19051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34"/>
                    </a:solidFill>
                    <a:latin typeface="Arial"/>
                  </a:rPr>
                  <a:t>1.5:1</a:t>
                </a:r>
                <a:endParaRPr b="0" lang="en-US" sz="1800" spc="-1" strike="noStrike">
                  <a:solidFill>
                    <a:srgbClr val="292934"/>
                  </a:solidFill>
                  <a:latin typeface="Tahoma"/>
                </a:endParaRPr>
              </a:p>
            </p:txBody>
          </p:sp>
        </p:grpSp>
        <p:sp>
          <p:nvSpPr>
            <p:cNvPr id="613" name="Rectangle 15"/>
            <p:cNvSpPr/>
            <p:nvPr/>
          </p:nvSpPr>
          <p:spPr>
            <a:xfrm>
              <a:off x="3200400" y="6095880"/>
              <a:ext cx="2286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Nuclear Reac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615" name="Rectangle 3" descr=""/>
          <p:cNvPicPr/>
          <p:nvPr/>
        </p:nvPicPr>
        <p:blipFill>
          <a:blip r:embed="rId1"/>
          <a:stretch/>
        </p:blipFill>
        <p:spPr>
          <a:xfrm>
            <a:off x="407880" y="1603440"/>
            <a:ext cx="8278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Nuclear Deca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617" name="Rectangle 3" descr=""/>
          <p:cNvPicPr/>
          <p:nvPr/>
        </p:nvPicPr>
        <p:blipFill>
          <a:blip r:embed="rId1"/>
          <a:stretch/>
        </p:blipFill>
        <p:spPr>
          <a:xfrm>
            <a:off x="328680" y="1450800"/>
            <a:ext cx="828504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2533c"/>
                </a:solidFill>
                <a:latin typeface="Arial"/>
              </a:rPr>
              <a:t>Radioactive Decay </a:t>
            </a:r>
            <a:br>
              <a:rPr sz="4000"/>
            </a:br>
            <a:r>
              <a:rPr b="0" i="1" lang="en-US" sz="4000" spc="-1" strike="noStrike">
                <a:solidFill>
                  <a:srgbClr val="d2533c"/>
                </a:solidFill>
                <a:latin typeface="Arial"/>
              </a:rPr>
              <a:t>Half-lives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619" name="Picture 4" descr="ral4-1"/>
          <p:cNvPicPr/>
          <p:nvPr/>
        </p:nvPicPr>
        <p:blipFill>
          <a:blip r:embed="rId1"/>
          <a:stretch/>
        </p:blipFill>
        <p:spPr>
          <a:xfrm>
            <a:off x="3048120" y="3429000"/>
            <a:ext cx="3695760" cy="77148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676520" y="2111400"/>
            <a:ext cx="6248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Half-life is the time taken for half of the atoms of a radio-active substance to decay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621" name="Rectangle 1" descr=""/>
          <p:cNvPicPr/>
          <p:nvPr/>
        </p:nvPicPr>
        <p:blipFill>
          <a:blip r:embed="rId2"/>
          <a:stretch/>
        </p:blipFill>
        <p:spPr>
          <a:xfrm>
            <a:off x="237960" y="5181480"/>
            <a:ext cx="4035600" cy="1103400"/>
          </a:xfrm>
          <a:prstGeom prst="rect">
            <a:avLst/>
          </a:prstGeom>
          <a:ln w="0">
            <a:noFill/>
          </a:ln>
        </p:spPr>
      </p:pic>
      <p:cxnSp>
        <p:nvCxnSpPr>
          <p:cNvPr id="622" name="Straight Arrow Connector 3"/>
          <p:cNvCxnSpPr/>
          <p:nvPr/>
        </p:nvCxnSpPr>
        <p:spPr>
          <a:xfrm flipH="1">
            <a:off x="4107960" y="5081400"/>
            <a:ext cx="153360" cy="19116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sp>
        <p:nvSpPr>
          <p:cNvPr id="623" name="TextBox 6"/>
          <p:cNvSpPr/>
          <p:nvPr/>
        </p:nvSpPr>
        <p:spPr>
          <a:xfrm>
            <a:off x="3276720" y="43974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Number of half-lives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TE/t</a:t>
            </a:r>
            <a:r>
              <a:rPr b="0" lang="en-US" sz="1800" spc="-1" strike="noStrike" baseline="30000">
                <a:solidFill>
                  <a:srgbClr val="292934"/>
                </a:solidFill>
                <a:latin typeface="Tahoma"/>
              </a:rPr>
              <a:t>1/2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5638680" y="4830840"/>
            <a:ext cx="3276720" cy="1739880"/>
          </a:xfrm>
          <a:prstGeom prst="rect">
            <a:avLst/>
          </a:prstGeom>
          <a:noFill/>
          <a:ln w="936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34"/>
                </a:solidFill>
                <a:uFillTx/>
                <a:latin typeface="Tahoma"/>
              </a:rPr>
              <a:t>5 variables to consider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buClr>
                <a:srgbClr val="29293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Initial quantity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buClr>
                <a:srgbClr val="29293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Final quantity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buClr>
                <a:srgbClr val="29293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# of half-lives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buClr>
                <a:srgbClr val="29293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Value of a half life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>
              <a:buClr>
                <a:srgbClr val="29293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Time Elapsed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ample Problem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1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sample of radioactive iridium has a half life of 12 years.  In 60 years, how much iridium would remain from a 50g sample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13"/>
              <p:cNvSpPr txBox="1"/>
              <p:nvPr/>
            </p:nvSpPr>
            <p:spPr>
              <a:xfrm>
                <a:off x="5016600" y="5468760"/>
                <a:ext cx="14284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15"/>
              <p:cNvSpPr txBox="1"/>
              <p:nvPr/>
            </p:nvSpPr>
            <p:spPr>
              <a:xfrm>
                <a:off x="4921200" y="3490920"/>
                <a:ext cx="14842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9" name="Text Box 4"/>
          <p:cNvSpPr/>
          <p:nvPr/>
        </p:nvSpPr>
        <p:spPr>
          <a:xfrm>
            <a:off x="849240" y="3206880"/>
            <a:ext cx="2691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Initial=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Final=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Time Elapsed=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# of half lives=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Value of 1 half life=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1828800" y="3187800"/>
            <a:ext cx="10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50g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3357720" y="5651640"/>
            <a:ext cx="15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12 years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2886120" y="44560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60 years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33" name="Text Box 8"/>
          <p:cNvSpPr/>
          <p:nvPr/>
        </p:nvSpPr>
        <p:spPr>
          <a:xfrm>
            <a:off x="1814400" y="381492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17"/>
              <p:cNvSpPr txBox="1"/>
              <p:nvPr/>
            </p:nvSpPr>
            <p:spPr>
              <a:xfrm>
                <a:off x="4892760" y="2376360"/>
                <a:ext cx="1560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itial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5" name="Text Box 18"/>
          <p:cNvSpPr/>
          <p:nvPr/>
        </p:nvSpPr>
        <p:spPr>
          <a:xfrm>
            <a:off x="2846520" y="5056200"/>
            <a:ext cx="13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60/12 = 5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19"/>
              <p:cNvSpPr txBox="1"/>
              <p:nvPr/>
            </p:nvSpPr>
            <p:spPr>
              <a:xfrm>
                <a:off x="4957920" y="4430880"/>
                <a:ext cx="1498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0"/>
              <p:cNvSpPr txBox="1"/>
              <p:nvPr/>
            </p:nvSpPr>
            <p:spPr>
              <a:xfrm>
                <a:off x="7029360" y="3813120"/>
                <a:ext cx="193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2533c"/>
                </a:solidFill>
                <a:latin typeface="Arial"/>
              </a:rPr>
              <a:t>Half-lif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Half-lives can range from a millionth of a second to millions of year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640" name="Picture 4" descr="ral3-2"/>
          <p:cNvPicPr/>
          <p:nvPr/>
        </p:nvPicPr>
        <p:blipFill>
          <a:blip r:embed="rId1"/>
          <a:stretch/>
        </p:blipFill>
        <p:spPr>
          <a:xfrm>
            <a:off x="5257800" y="735120"/>
            <a:ext cx="32004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 Long Time Ago…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ntoine Lavoisier (1782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sed experiments in closed containers to develop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Law of Conservation of Matt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Joseph Proust (1799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nalyzed water to develop the Law of Definite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roport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John Dalton (1803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mpiled past research to develop the first useful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tomic theor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92" name="Picture 7" descr=""/>
          <p:cNvPicPr/>
          <p:nvPr/>
        </p:nvPicPr>
        <p:blipFill>
          <a:blip r:embed="rId1"/>
          <a:stretch/>
        </p:blipFill>
        <p:spPr>
          <a:xfrm>
            <a:off x="685800" y="2060640"/>
            <a:ext cx="615960" cy="7430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"/>
          <p:cNvPicPr/>
          <p:nvPr/>
        </p:nvPicPr>
        <p:blipFill>
          <a:blip r:embed="rId2"/>
          <a:stretch/>
        </p:blipFill>
        <p:spPr>
          <a:xfrm>
            <a:off x="685800" y="3414600"/>
            <a:ext cx="677880" cy="800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" descr=""/>
          <p:cNvPicPr/>
          <p:nvPr/>
        </p:nvPicPr>
        <p:blipFill>
          <a:blip r:embed="rId3"/>
          <a:stretch/>
        </p:blipFill>
        <p:spPr>
          <a:xfrm>
            <a:off x="725400" y="4724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2533c"/>
                </a:solidFill>
                <a:uFillTx/>
                <a:latin typeface="Arial"/>
              </a:rPr>
              <a:t>Radioactive Dating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ses carbon-14 to tell age of fossi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1409760" indent="-4953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-14 is present constantly in atmospher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409760" indent="-4953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15.3 decays/min in living organism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409760" indent="-4953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decays/min decreases by ½ every 5370 years an organism is dead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409760" indent="-4953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Only useful to 60,000 yrs ago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ransmuta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l nuclear reactions are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ransmutation react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ome transmutation reactions are induc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l transuranium elemen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atomic #93 and greater) ha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een produced through induc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ransmutati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6683400" y="1512720"/>
            <a:ext cx="2270160" cy="1262160"/>
          </a:xfrm>
          <a:prstGeom prst="rect">
            <a:avLst/>
          </a:pr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Conversion of an 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element into an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atom of another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element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646" name="Picture 6" descr="300px-Fission_chain_reaction"/>
          <p:cNvPicPr/>
          <p:nvPr/>
        </p:nvPicPr>
        <p:blipFill>
          <a:blip r:embed="rId1"/>
          <a:stretch/>
        </p:blipFill>
        <p:spPr>
          <a:xfrm>
            <a:off x="6505560" y="3263760"/>
            <a:ext cx="23335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2533c"/>
                </a:solidFill>
                <a:latin typeface="Arial"/>
              </a:rPr>
              <a:t>Writing Induced Transmutation Reactions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468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rite the balanced nuclear equation for the induced transmutation of aluminum-27 into sodium-24 by neutron bombardment.  An alpha particle is released in the reacti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8"/>
              <p:cNvSpPr txBox="1"/>
              <p:nvPr/>
            </p:nvSpPr>
            <p:spPr>
              <a:xfrm>
                <a:off x="2898720" y="3122640"/>
                <a:ext cx="37418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l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13"/>
              <p:cNvSpPr txBox="1"/>
              <p:nvPr/>
            </p:nvSpPr>
            <p:spPr>
              <a:xfrm>
                <a:off x="2919240" y="5738760"/>
                <a:ext cx="36165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u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1" name="Text Box 4"/>
          <p:cNvSpPr/>
          <p:nvPr/>
        </p:nvSpPr>
        <p:spPr>
          <a:xfrm>
            <a:off x="679320" y="438948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rite the balanced nuclear equation for the alpha particle bombardment of Pu-239.  One of the reaction products is a neutron.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Nuclear Reactions for Energy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Fission- nucleus broken into 2 smaller nuclei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Fusion- smaller nuclei join to form a larger, more stable nuclei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655" name="Picture 8" descr="http://images.tutorvista.com/content/atoms-and-nuclei/uncontrolled-fission.jpeg"/>
          <p:cNvPicPr/>
          <p:nvPr/>
        </p:nvPicPr>
        <p:blipFill>
          <a:blip r:embed="rId1"/>
          <a:stretch/>
        </p:blipFill>
        <p:spPr>
          <a:xfrm>
            <a:off x="0" y="3200400"/>
            <a:ext cx="4510080" cy="35053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0" descr="http://www.atomicarchive.com/Fusion/Images/fusion.jpg"/>
          <p:cNvPicPr/>
          <p:nvPr/>
        </p:nvPicPr>
        <p:blipFill>
          <a:blip r:embed="rId2"/>
          <a:stretch/>
        </p:blipFill>
        <p:spPr>
          <a:xfrm>
            <a:off x="4724280" y="3200400"/>
            <a:ext cx="3944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eactants and Produc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658" name="Rectangle 5" descr=""/>
          <p:cNvPicPr/>
          <p:nvPr/>
        </p:nvPicPr>
        <p:blipFill>
          <a:blip r:embed="rId1"/>
          <a:stretch/>
        </p:blipFill>
        <p:spPr>
          <a:xfrm>
            <a:off x="73080" y="1676520"/>
            <a:ext cx="4120920" cy="4717800"/>
          </a:xfrm>
          <a:prstGeom prst="rect">
            <a:avLst/>
          </a:prstGeom>
          <a:ln w="0">
            <a:noFill/>
          </a:ln>
        </p:spPr>
      </p:pic>
      <p:pic>
        <p:nvPicPr>
          <p:cNvPr id="659" name="Rectangle 6" descr=""/>
          <p:cNvPicPr/>
          <p:nvPr/>
        </p:nvPicPr>
        <p:blipFill>
          <a:blip r:embed="rId2"/>
          <a:stretch/>
        </p:blipFill>
        <p:spPr>
          <a:xfrm>
            <a:off x="4187880" y="1676520"/>
            <a:ext cx="4803840" cy="471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87656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Nuclear Power- </a:t>
            </a:r>
            <a:br>
              <a:rPr sz="3600"/>
            </a:b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generated by a controlled </a:t>
            </a:r>
            <a:r>
              <a:rPr b="0" lang="en-US" sz="3600" spc="-1" strike="noStrike" u="sng">
                <a:solidFill>
                  <a:srgbClr val="d2533c"/>
                </a:solidFill>
                <a:uFillTx/>
                <a:latin typeface="Arial"/>
              </a:rPr>
              <a:t>fission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chain reaction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3580920"/>
            <a:ext cx="36957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ontrol rods-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bsorb neutrons to slow the chain reac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de of cadmiu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serted or withdrawn to keep temp of reaction stead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257800" y="350532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derator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- slow neutrons down so they DO hit uranium fuel rod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de of water, beryllium, or graphit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tended to allow neutrons to be absorbed by uranium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663" name="Picture 7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267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Cooling and Shielding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ater- acts as a coolant and transfers heat between reactor and turbines that produce electric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teel &amp; concrete- surround core and protect personnel by absorbing radiation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8839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3429000" y="3124080"/>
            <a:ext cx="4724280" cy="1143000"/>
          </a:xfrm>
          <a:prstGeom prst="rect">
            <a:avLst/>
          </a:prstGeom>
          <a:gradFill rotWithShape="0">
            <a:gsLst>
              <a:gs pos="0">
                <a:srgbClr val="bfcac3"/>
              </a:gs>
              <a:gs pos="100000">
                <a:srgbClr val="ebee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John Dalt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97" name="Picture 5" descr="jdalton2"/>
          <p:cNvPicPr/>
          <p:nvPr/>
        </p:nvPicPr>
        <p:blipFill>
          <a:blip r:embed="rId1"/>
          <a:stretch/>
        </p:blipFill>
        <p:spPr>
          <a:xfrm>
            <a:off x="380880" y="1905120"/>
            <a:ext cx="2724120" cy="36115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8120" y="22096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alton’s theory had 4 major tene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1.  All matter is composed of atoms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2.  Atoms are indivisible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3.  Atoms of 1 element are alike, but different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from those of other elements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4.  Atoms combine in small, whole number ratios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to form compounds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 Little While Ago…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500" name="Picture 7" descr="jjthom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457200" y="1600200"/>
            <a:ext cx="3987720" cy="29718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4000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34"/>
                </a:solidFill>
                <a:latin typeface="Arial"/>
              </a:rPr>
              <a:t>J.J. Thomson (1897) </a:t>
            </a: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discovers the electron using a cathode ray tube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Proposes the “Plum Pudding” Model of the atom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02" name="Picture 8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Cathode Ray Tube Experiment</a:t>
            </a:r>
            <a:br>
              <a:rPr sz="3600"/>
            </a:b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aip.org/history/electron/jjappara.htm</a:t>
            </a:r>
            <a:br>
              <a:rPr sz="2200"/>
            </a:br>
            <a:endParaRPr b="0" lang="en-US" sz="2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05" name="Picture 7" descr="appanim"/>
          <p:cNvPicPr/>
          <p:nvPr/>
        </p:nvPicPr>
        <p:blipFill>
          <a:blip r:embed="rId2"/>
          <a:stretch/>
        </p:blipFill>
        <p:spPr>
          <a:xfrm>
            <a:off x="1371600" y="2133720"/>
            <a:ext cx="7238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he Nucleus Exists!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rnest Rutherford (1911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ses the gold foil experiment to “discover” the nucleu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08" name="Picture 7" descr="rutherf2"/>
          <p:cNvPicPr/>
          <p:nvPr/>
        </p:nvPicPr>
        <p:blipFill>
          <a:blip r:embed="rId1"/>
          <a:stretch/>
        </p:blipFill>
        <p:spPr>
          <a:xfrm>
            <a:off x="4495680" y="1981080"/>
            <a:ext cx="43689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he Gold Foil Experimen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510" name="Picture 7" descr="rutherford_exp"/>
          <p:cNvPicPr/>
          <p:nvPr/>
        </p:nvPicPr>
        <p:blipFill>
          <a:blip r:embed="rId1"/>
          <a:stretch/>
        </p:blipFill>
        <p:spPr>
          <a:xfrm>
            <a:off x="2862360" y="2604960"/>
            <a:ext cx="34192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esults of Gold Foil Experiment…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Over 98% of the particles went straight through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About 2% of the particles went through but wer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deflected by large angles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About 0.01% of the particles bounced off the gold foil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bout that 0.01% of particles….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" It was quite the most incredible event that ever happened to me in my life. It was almost as incredible as if you fired a 15-inch shell at a piece of tissue paper and it came back and hit you." E. Rutheford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1:56:12Z</dcterms:created>
  <dc:creator>cmichene</dc:creator>
  <dc:description/>
  <dc:language>en-US</dc:language>
  <cp:lastModifiedBy>Dawn</cp:lastModifiedBy>
  <dcterms:modified xsi:type="dcterms:W3CDTF">2011-11-01T20:29:41Z</dcterms:modified>
  <cp:revision>68</cp:revision>
  <dc:subject/>
  <dc:title>Chapter 2</dc:title>
</cp:coreProperties>
</file>